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C68-4F73-4A33-99D0-9F0681BF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EA6-17DB-485C-8AD5-2A2537F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44B-E8EF-436C-B10F-C6F52C24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E52-4BC5-4204-8025-45F438F7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70D7-C77B-4D4C-9F8F-3CC5800A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E82C-70C6-47AE-A4BD-2CD878E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C7A-1E08-41E2-B68A-5F80BAE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5A63-4A19-4D61-9B43-52830C8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4A51-F17C-49C3-9155-6A94440B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B5A-CDC2-4132-8460-24BFDE13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3131-72F0-4543-B812-6FB9641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17C-9089-4525-BEFA-DC855C3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0E87-E944-4222-8E7E-9C75C479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1FB-7314-40EB-BB24-260BF59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B0C-6159-40C9-8570-7EB8154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65B2-C469-44A5-B9A0-4F519B26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9EAA-637C-41C8-9DE4-0E64135B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E72-BEC0-4548-95BE-06848D9D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A84B-3107-4738-A17A-571E1BF8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606-4654-406F-AA04-44A4B335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813-8BBF-4221-BB2F-78B1AB9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2BC-2819-4333-AED0-600A8AA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65F-4625-4CDC-879C-06C3F2B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782-F440-411F-ABE8-A06BED06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D34-27BA-4E1E-ACE5-F48CDDD9D3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3C9-791D-4FCC-8041-8390D7B96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jpeg"/><Relationship Id="rId7" Type="http://schemas.openxmlformats.org/officeDocument/2006/relationships/hyperlink" Target="http://www.goldposters.com/buyposters.php?item=2641463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foxnews.com/scitech/2010/10/11/scientist-claims-strange-signal-comes-alien-planet/" TargetMode="External"/><Relationship Id="rId6" Type="http://schemas.openxmlformats.org/officeDocument/2006/relationships/hyperlink" Target="http://www.foxnews.com/scitech/2010/10/11/scientist-claims-strange-signal-comes-alien-planet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tar Systems and Galax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5" descr="http://t3.gstatic.com/images?q=tbn:ANd9GcQvgzZLLlVkvd--eJ3D1v2I9fJ1W2dtEc-qlMe2lxT4nHL3uQk1Og"/>
          <p:cNvPicPr/>
          <p:nvPr/>
        </p:nvPicPr>
        <p:blipFill>
          <a:blip r:embed="rId1"/>
          <a:stretch/>
        </p:blipFill>
        <p:spPr>
          <a:xfrm>
            <a:off x="228600" y="1471680"/>
            <a:ext cx="3733920" cy="515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ttp://www.theneweditor.com/uploads/HubbleSpiesaZooofGalaxies.jpg"/>
          <p:cNvPicPr/>
          <p:nvPr/>
        </p:nvPicPr>
        <p:blipFill>
          <a:blip r:embed="rId2"/>
          <a:stretch/>
        </p:blipFill>
        <p:spPr>
          <a:xfrm>
            <a:off x="4343400" y="144792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laxy is a huge groups of single stars, star systems, star clusters, dust, and gas bound together by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billions of galaxies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ronomers have classified most galaxies into three main categories:  spiral galaxies, elliptical galaxies, and irregular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http://www.examiner.com/images/blog/wysiwyg/image/Spiral_Galaxy.jpg"/>
          <p:cNvPicPr/>
          <p:nvPr/>
        </p:nvPicPr>
        <p:blipFill>
          <a:blip r:embed="rId4"/>
          <a:stretch/>
        </p:blipFill>
        <p:spPr>
          <a:xfrm>
            <a:off x="304920" y="4952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http://library.thinkquest.org/20632/images/pictures/andromeda.jpg"/>
          <p:cNvPicPr/>
          <p:nvPr/>
        </p:nvPicPr>
        <p:blipFill>
          <a:blip r:embed="rId5"/>
          <a:stretch/>
        </p:blipFill>
        <p:spPr>
          <a:xfrm>
            <a:off x="2438280" y="5029200"/>
            <a:ext cx="1981440" cy="1320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ttp://t2.gstatic.com/images?q=tbn:ANd9GcRzBQn8NcTm4N5OnavfKMXkvTqyw7CAc1eCh-FMCjKK1CzQWNGT0A"/>
          <p:cNvPicPr/>
          <p:nvPr/>
        </p:nvPicPr>
        <p:blipFill>
          <a:blip r:embed="rId6"/>
          <a:stretch/>
        </p:blipFill>
        <p:spPr>
          <a:xfrm>
            <a:off x="518148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al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al galaxies are galaxies that have the shape of twin spir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galaxy has the same spiral, pinwheel sha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piral arms contain many bright, young stars as well as gas and d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spiral-galaxy"/>
          <p:cNvPicPr/>
          <p:nvPr/>
        </p:nvPicPr>
        <p:blipFill>
          <a:blip r:embed="rId4"/>
          <a:stretch/>
        </p:blipFill>
        <p:spPr>
          <a:xfrm>
            <a:off x="4572000" y="1752480"/>
            <a:ext cx="43434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iptical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galaxies have spiral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liptical galaxies look like flattened ba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galaxies contain billions of stars but have little gas and dust between th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elliptical-galaxies"/>
          <p:cNvPicPr/>
          <p:nvPr/>
        </p:nvPicPr>
        <p:blipFill>
          <a:blip r:embed="rId4"/>
          <a:stretch/>
        </p:blipFill>
        <p:spPr>
          <a:xfrm>
            <a:off x="4495680" y="1676520"/>
            <a:ext cx="457200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regular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galaxies do not have regular shap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is, they are known as irregular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gular galaxies are typically smaller than other types of galax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Irregular_Galaxy"/>
          <p:cNvPicPr/>
          <p:nvPr/>
        </p:nvPicPr>
        <p:blipFill>
          <a:blip r:embed="rId4"/>
          <a:stretch/>
        </p:blipFill>
        <p:spPr>
          <a:xfrm>
            <a:off x="4876920" y="1855800"/>
            <a:ext cx="389556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s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asar is an enormously bright, distant galaxy with a giant black hole at its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of these black holes has a mass of a billion times or more as great as the su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enormous amounts of gas revolve around the black hole, the gas heats up and shines brigh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http://lh5.ggpht.com/_Na1pgA0cvZ0/Sgj-I8ups4I/AAAAAAAAAvw/niraqJQxkCI/quasar%5B3%5D.jpg"/>
          <p:cNvPicPr/>
          <p:nvPr/>
        </p:nvPicPr>
        <p:blipFill>
          <a:blip r:embed="rId4"/>
          <a:stretch/>
        </p:blipFill>
        <p:spPr>
          <a:xfrm>
            <a:off x="6324480" y="0"/>
            <a:ext cx="2200320" cy="1676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http://images.iop.org/objects/phw/news/8/6/1/padovani.jpg"/>
          <p:cNvPicPr/>
          <p:nvPr/>
        </p:nvPicPr>
        <p:blipFill>
          <a:blip r:embed="rId5"/>
          <a:stretch/>
        </p:blipFill>
        <p:spPr>
          <a:xfrm>
            <a:off x="457200" y="152280"/>
            <a:ext cx="213840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http://www.windows2universe.org/the_universe/images/qsohosts_s.gif"/>
          <p:cNvPicPr/>
          <p:nvPr/>
        </p:nvPicPr>
        <p:blipFill>
          <a:blip r:embed="rId6"/>
          <a:stretch/>
        </p:blipFill>
        <p:spPr>
          <a:xfrm>
            <a:off x="3962520" y="5029200"/>
            <a:ext cx="5006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Systems and Galax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zy band of light stretched across the sky is the Milky Way, a spiral barred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ooks as if the Milky Way is very far away from Earth.  Actually, though, Earth is inside the Milky W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http://t3.gstatic.com/images?q=tbn:ANd9GcR51DOD60QEseiaCE4F25HJP2rEvjxksyqnZedqOU617MQbrClsPw"/>
          <p:cNvPicPr/>
          <p:nvPr/>
        </p:nvPicPr>
        <p:blipFill>
          <a:blip r:embed="rId3"/>
          <a:stretch/>
        </p:blipFill>
        <p:spPr>
          <a:xfrm>
            <a:off x="5181480" y="3886200"/>
            <a:ext cx="3365640" cy="2543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http://apod.nasa.gov/apod/image/0710/MilkyWayRoad_landolfi.jpg"/>
          <p:cNvPicPr/>
          <p:nvPr/>
        </p:nvPicPr>
        <p:blipFill>
          <a:blip r:embed="rId4"/>
          <a:stretch/>
        </p:blipFill>
        <p:spPr>
          <a:xfrm>
            <a:off x="0" y="4114800"/>
            <a:ext cx="1981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Systems and Plan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solar system has only one star,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of all stars are members of groups of two stars called binary star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star system you would see two or more suns in the s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binarystar"/>
          <p:cNvPicPr/>
          <p:nvPr/>
        </p:nvPicPr>
        <p:blipFill>
          <a:blip r:embed="rId4"/>
          <a:stretch/>
        </p:blipFill>
        <p:spPr>
          <a:xfrm>
            <a:off x="4657680" y="1981080"/>
            <a:ext cx="39528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and Triple Star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fix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ns “two.” What does Tri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a binary star system is in the handle of the Big Dip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with three stars are called tripl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of a triple star system is that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Centa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pha Centa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losest star to ours, but it is really three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binary-star-systems_69"/>
          <p:cNvPicPr/>
          <p:nvPr/>
        </p:nvPicPr>
        <p:blipFill>
          <a:blip r:embed="rId6"/>
          <a:stretch/>
        </p:blipFill>
        <p:spPr>
          <a:xfrm>
            <a:off x="304920" y="5105520"/>
            <a:ext cx="2209680" cy="15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This Artist's Animation Shows the Clockwork-Like Orbits of a Triple-Star System Called HD 188753 Poster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19920" y="4800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lipsing Bin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m star in a binary star may pass in front of a brighter star and eclipse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Earth, the binary star would suddenly dim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stem in which one star periodically blocks the light from another star is called an eclipsing bi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http://www.armaghplanet.com/blog/wp-content/uploads/2010/11/Image-of-eclipsing-binary.jpg"/>
          <p:cNvPicPr/>
          <p:nvPr/>
        </p:nvPicPr>
        <p:blipFill>
          <a:blip r:embed="rId4"/>
          <a:stretch/>
        </p:blipFill>
        <p:spPr>
          <a:xfrm>
            <a:off x="5181480" y="4724280"/>
            <a:ext cx="2862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ple star system, astronomers found a world called HD 188753 A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ould not set foot on this planet though, since it’s a “gas giant”, roughly the mass of Jupiter, orbiting its parent star every 3.3 day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http://upload.wikimedia.org/wikipedia/commons/thumb/9/90/Triple-star_sunset.jpg/200px-Triple-star_sunset.jpg"/>
          <p:cNvPicPr/>
          <p:nvPr/>
        </p:nvPicPr>
        <p:blipFill>
          <a:blip r:embed="rId3"/>
          <a:stretch/>
        </p:blipFill>
        <p:spPr>
          <a:xfrm>
            <a:off x="525780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gliese581c"/>
          <p:cNvPicPr/>
          <p:nvPr/>
        </p:nvPicPr>
        <p:blipFill>
          <a:blip r:embed="rId4"/>
          <a:stretch/>
        </p:blipFill>
        <p:spPr>
          <a:xfrm>
            <a:off x="0" y="4724280"/>
            <a:ext cx="2514600" cy="1932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830680" y="518148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5"/>
              </a:rPr>
              <a:t>Gliese 581-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Earth-like pla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tars belong to larger groupings called star clu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stars cluster form from the same nebula at about the sam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major types of star clusters:  open clusters and globular clus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http://www.atlasoftheuniverse.com/nic1805.jpg"/>
          <p:cNvPicPr/>
          <p:nvPr/>
        </p:nvPicPr>
        <p:blipFill>
          <a:blip r:embed="rId4"/>
          <a:stretch/>
        </p:blipFill>
        <p:spPr>
          <a:xfrm>
            <a:off x="380880" y="4419720"/>
            <a:ext cx="3537000" cy="21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http://images.astronet.ru/pubd/2003/01/02/0001182189/ngc1818_hst.jpg"/>
          <p:cNvPicPr/>
          <p:nvPr/>
        </p:nvPicPr>
        <p:blipFill>
          <a:blip r:embed="rId5"/>
          <a:stretch/>
        </p:blipFill>
        <p:spPr>
          <a:xfrm>
            <a:off x="4419720" y="4419720"/>
            <a:ext cx="427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clusters have a loose, disorganized appearance and contain no more than a few thousand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often contain many bright supergiants and mostly gas and d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1" descr="2006-17-c-large_web"/>
          <p:cNvPicPr/>
          <p:nvPr/>
        </p:nvPicPr>
        <p:blipFill>
          <a:blip r:embed="rId3"/>
          <a:stretch/>
        </p:blipFill>
        <p:spPr>
          <a:xfrm>
            <a:off x="162000" y="1533600"/>
            <a:ext cx="4486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 Clu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ular clusters are large groupings of older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ular clusters are round and densely packed with stars—some may contain more than a m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m55_mochejska_full"/>
          <p:cNvPicPr/>
          <p:nvPr/>
        </p:nvPicPr>
        <p:blipFill>
          <a:blip r:embed="rId3"/>
          <a:stretch/>
        </p:blipFill>
        <p:spPr>
          <a:xfrm>
            <a:off x="228600" y="1523880"/>
            <a:ext cx="43513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20:42:41Z</dcterms:created>
  <dc:creator>Katie Smith</dc:creator>
  <dc:description/>
  <dc:language>en-US</dc:language>
  <cp:lastModifiedBy>Brandi</cp:lastModifiedBy>
  <dcterms:modified xsi:type="dcterms:W3CDTF">2014-02-23T21:50:44Z</dcterms:modified>
  <cp:revision>22</cp:revision>
  <dc:subject/>
  <dc:title>Star Systems and Galaxies</dc:title>
</cp:coreProperties>
</file>